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4B7-8DF3-4E08-9933-2CE88DF5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F2C-7ACB-4F4E-B069-AC7547F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F3E-B5B9-4A06-BE39-28D8F417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79E-F055-48BD-9B61-6C650910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C12-09F1-44F3-AC06-AA909B0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8B0-2829-4337-85CB-32BC7514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43C-B746-4EAE-92A7-DF89DE9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D0E-CDD2-4718-89F7-98EE2F5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7F4-CB87-4609-9CCA-23EF095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7E6-752A-4FF5-B577-1489AD8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0CA-15FF-4C49-92B1-6AF43F1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026-BF3E-454D-A6CA-CD63838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64A-6937-410F-A734-9B69C338E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1080" y="3636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s to 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ob Walko - R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71480"/>
            <a:ext cx="8931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Visited with Bill Cotton’s group at Colorado State University (DOE-funded project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inuing implementation into OLAM of their upgraded microphysics sche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which has improvement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) Categorization of hydrometeors into distinct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) Physical properties of each hydromete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) Physical processes experienced by hydromete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) Representation of how hydrometeor classes interact i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) Microphysical effects of aero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CSU code is a bulk microphysics model that approximates hydrometeor di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pectra with gamma distributions.  However, many auxiliary quantities are pre-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from detailed size-bin calculations and stored during model initialization in order to g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ome of the accuracy of bin microphysics models without any added computational ex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uring run-tim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 prognosed fields (separate hydrometeor categories) in CSU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gt;100 prognosed fields (many sizes for each category) in b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upgraded microphysics will be used in selected case study simulations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oth convective and wintertime precipitating systems.  It will also be used in hurric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imu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2. Studying HYCOM documentation and code in preparation for OLAM-HYCOM coup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(NSF projec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39:37Z</dcterms:created>
  <dc:creator>walko</dc:creator>
  <dc:description/>
  <dc:language>en-US</dc:language>
  <cp:lastModifiedBy>walko</cp:lastModifiedBy>
  <dcterms:modified xsi:type="dcterms:W3CDTF">2009-10-14T17:19:42Z</dcterms:modified>
  <cp:revision>6</cp:revision>
  <dc:subject/>
  <dc:title>Slide 1</dc:title>
</cp:coreProperties>
</file>